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1B841-B34B-4A88-833C-2AD447C626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3D76-1A47-4BD0-9269-E539F63E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8149A0-8F54-4744-95A2-7AE281EA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0B7173-D810-48A3-9358-1A6F0E21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9D984F-6F33-4283-9A31-384A810A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E7043F-469A-4A00-8A3A-2A2B36BE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D7834E-1453-40A5-819C-7B0F1EB2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8E18F9-92B8-4EF3-A6C2-A7FCFCBC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F364A6-6778-41E5-ACDF-B3203412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7D26D7-81E3-4AE8-98EF-0A6FFBC8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DE1DA4-9655-4896-B261-6A011A4B52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177C3-2F4B-469B-9BF3-4366AF6585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9B1A-0F7D-43A3-BFC7-FDC89D1A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C4408-820F-4A16-9BDE-C5CC97CA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7C704-EAAA-4FEF-BF8C-FC4B868E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C3A81-CAC7-4B80-BA42-9AEEC411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831CF-4849-41F0-8336-C462A9BC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DB2EB-0E35-4FB4-B493-CD168D37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5EACC-20BE-45F7-8E11-9C774037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4F2D6-E35C-4855-9009-006FBB58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19061-5ECF-4663-9775-FF2E1103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8997F-3EED-48B6-B7E8-84D45961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A9F13-1595-4B23-8174-A0D0C303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139B-2C4E-4A4A-9418-F59051874F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FD236-A444-4BE8-BE65-CF95C414D4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EF712D-A43A-48D6-8F89-E41299360F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ACCF26-A2F5-4B46-B1D8-56B9AF9B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5A7D07-D054-47A8-8218-7C08C47E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B49104-908F-48D4-A84D-62616DB1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A33302-1ED8-46AE-935E-8828BC7C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F23249-2EC2-42C5-BAE1-24F40046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8BBF24-50AB-4F91-A228-827B6CA0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A11815-D262-4BE3-A74F-3DAA33A7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D1D78A-2111-4472-A345-1760BE92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09135-96BB-4FC8-8745-1A6881EA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04C212-74BA-4E2D-9C42-115B1A2B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5BA5AD-21EC-4238-9DFC-D67B11BA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A32B72-5DA8-4306-A43F-8555940BF4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73AC9-DF4B-448A-9F38-3EA17454F6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F709B-CC18-4E2D-8A63-F86EDDDF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39367-0B02-42C1-BC9D-8F7AA3DF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69D09-0C19-41E2-BAED-80406ED7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A7E47-8DF1-42DC-82F7-740389CF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F7770-50FE-450C-BA45-4DDC6EC4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F181A-D88B-42AF-9809-E5875E42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BF076-E737-4ECC-A3E0-A79519F4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1254B8-66E4-4154-B2C1-2626B105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12514-3C83-4458-BB27-95280098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148CE-F4BF-4137-8638-A6294283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DD92E-20E8-4164-96EE-F956572E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451A3-A4E6-4966-8DB6-9274C37045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D7BAC-A187-400A-B73C-6D38A04E72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75B92-4D13-4087-B734-FE942763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1A579-E8E2-4DA9-8C52-5C243FC2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51841-50BF-4FC9-BCA6-B2506625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36F32-BEF3-463B-A75C-22EB2DE7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28ACD-7CF7-4BAE-B6F4-C524F93A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F9214-7AFA-4410-A50F-0AEA80ED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52709-A8E4-42F5-B08C-45733F88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71A83-775C-4B7B-97B9-76938DB0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AB67C-C050-4D3A-A630-09AD684B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85D9B-4F94-418D-9516-224AB739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56AE5-7856-4A8A-90FC-48B1DF8D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091B8-31F0-4739-B66F-7E7EA6107F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4FD65-74B3-4C8D-8E35-4A3992A3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69DE3-D81E-4A08-990C-0DAD3CE8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7E4FB-02E8-4C2F-AC9A-CD5CC4D9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A5492-B39D-43E3-A8A9-785E4A67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A7583-3D2E-4648-A3FF-D043B2F1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A20A3-169A-4E96-B8DF-911B5F40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E20BB-AE4B-4ADF-ADAF-4B728D99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C32E3-9EEA-45D4-9A0A-522D8307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41169-EBFB-471A-87AB-F1AF2BC0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4C3EB-36AC-44E4-9C88-BC3214D1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4E7FD-28F2-4DB4-84ED-A9FA8258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F60F0-7381-4418-A7BF-C38F05A2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C83AB-359B-48C9-9097-A6C88CD1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B1C91-2C48-4B7C-B4D8-FFB0901C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7F9EE-4DD0-4E79-A63D-360A2A66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7E008-8DC9-41EE-B593-F1584137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1E6AC-98AB-48FE-9D3C-51515C0F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D2107-6B3D-496D-8E15-245CB554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BDAA8-D26D-468D-AF15-57A9865D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D6F8B-031B-4A2E-9D24-ABD29759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EA713-A2FB-4A70-8F1E-BD52674F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798A3-C289-40DB-9D2D-BBACD9F3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CB448-4E36-4CE6-A8F2-9849CD4C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4AD36-12D8-4A49-8D00-A404C49F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63A41-08F7-446F-9FF7-0499C26A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FE234-C9E9-4434-B4FB-C563994A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17EC1-CB0A-48C1-9FFE-BAE5F58C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016BF-17DF-46F5-B946-7E5D56C3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55F31-5758-4806-9C03-39328F05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75DC5-8459-46C3-A356-FA5BF00D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BE944-0257-454C-AF81-D5189200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4B624-E087-4D68-9024-5640839C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839DD-59F7-40E1-91E4-2C037543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B4598-AC3C-466A-8DDB-2596AFDB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D5E8C-E60C-451C-879D-CB04B3AC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7004B-23D9-4A31-A010-895C63B6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1E329-D53A-4D94-89AC-4A7C1B07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9B6C0-35AA-4CC4-B5DA-7334AB8F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73023-DFD7-4D0E-8DD9-E4290614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9ED32-6280-44D7-99BC-24289E43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2EF3E-42F0-4D05-9E37-8ABD3147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75315-E76F-40FB-99BE-FAC27755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3FE15-BE76-492E-BA46-E42A8D39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00281-893E-4C83-8D76-D3D97288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F1D14-EAA1-4007-8ABB-CEF540A4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1040E-F105-46CE-A8D6-6453BEEC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53845-12E1-423F-9CA7-01E226F8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EA7E-A53F-4464-A068-D9F79CED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EED38-A773-447F-993E-71F017C1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D48FE-5D13-4E73-981D-B59E8FFE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90F93-A6CE-464F-807F-FE1D9784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F8264-8F33-487C-813B-DDC883F7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3D49E-9E12-4EA3-962D-657B04D9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1A3BE-675C-4A61-BE20-3CB6541F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1FA5A-8030-4A3E-B6F0-711A46BD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9D4F8-A3DF-40F0-8A04-BA093F2B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0E934A-4743-4275-BA90-D22F40F0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2CAA4A-D9DE-4E36-B322-86941CE1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1DD15-1C6D-4BD3-B621-D19883F6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146F0-46FC-44FB-9086-3D00556D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666A7-ECBC-4A9F-A1FE-6F77C132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FFEE9-ECF9-4AFB-B055-D78B07FA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A8D46-3DBD-4901-BFEA-EA60DB1F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0A2F9-22DC-4A75-BF55-567E717C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F88138-B358-4C60-BCEE-0BCAE5A3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1A626-1154-44E3-8594-C459B8B6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5673EE-A594-4569-9192-E40916F2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999E5-3020-4246-859A-E7DCC9D1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09A8FA-E54F-4624-9928-ACACB5A3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FEEF31-99BB-4F51-9279-40EE5BEC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2D859-7FC6-498F-B66F-F90BF31B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9DF30-E6F0-4F91-ABF1-F8D67099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4628D-2D06-4A66-99EF-DBF942FE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C628E-CB62-46B2-968A-F0E75B53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776DE-ACEC-4446-92DB-575115CD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2623E-53CB-4D43-8D7D-4635FBC8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34944C-A8E6-4CEC-A18A-5FFA8B28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9DD52-86A5-48B9-9CCF-7D3A5534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A0571-1139-4C53-A8F7-B2856667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A32E6D-D5C7-464F-BACF-D9567DCD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5F4FCC-CB73-4DEB-A489-B24EDAAD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012A4-C3BC-4D27-A2D6-5C041AC2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648210-65F8-4804-8BC6-68225B05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62D706-E1B5-4A7A-A841-8EF2840E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5003B-D1A0-4C51-9151-3E23D2D6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FA24C-97ED-46C3-9843-CEA28F92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2A0942-D708-4463-955D-C440B1D0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6E0CEA-EF05-44A0-A505-3E2869D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B8019-4C8E-44DF-85DF-62EF1CB9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4C6B4E-3D3C-46F9-B3A0-C68A0100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70649-8772-4847-99A2-4B82354B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A5C810-AD9E-4A02-B65F-CF1FE989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39A04-193E-432E-9255-062B9FB9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2F5E6-7011-41D0-983C-9E94F347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0402BA-FCFC-455A-BFA7-AF5C92AE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1E1E3F-B359-42A8-818F-C7DC347D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6E3873-DFD7-4EDC-918E-AE5C82EE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D9EC44-4AA3-4435-B26D-EFF966A1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5AB1EC-9DEC-482E-84C8-741518FA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40F6EF-DB48-477B-A2D4-F98A0E3C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0740DC-0F93-4F0E-92A2-2A34370E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142023-ABA4-489A-897C-085CB7B9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ED4B14-AA37-4EE1-B3ED-0F3783B3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B9E27-0ADD-442D-9FB0-CD818AF3B9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70F2D2-B539-445E-99B1-FDFE7E3F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6B9DC-D8C5-45E3-A85E-DFABEB0B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C8D0DF-13E5-4277-8D97-8E021786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A5B80-8E4A-49F9-89D2-BE3A55D4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AD40A5-E63D-4E00-9087-846B0A70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C5DC18-8633-41C6-AC23-FB4835D4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A4FA1-B26D-4A5C-9ECD-0F9A3BFC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58E1F-CF35-48FD-92C7-13696F9E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C70520-03EB-4589-8C2F-102E4F8D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36210F-9A65-43DD-86F2-94BCFCEE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297F4D-0967-4B6F-BAF8-3B3639DD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FC6AA8-5EF5-4DA2-A8D6-3C029BFB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F93568-0A8A-4479-80CF-B5625091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53B662-C5CB-43BE-BB3E-3293DB94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2D0B36-D81B-4D7C-8F7F-C3BC154D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CF5410-79A0-4CF7-8BFC-62FAD21E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C58461-F042-4D04-BD63-2D4E9572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89175-F41A-494B-BDA4-AC474E78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35F32F-3C9A-425A-A8B9-03226028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2A368F-DFA3-40F2-929D-7B64579E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44FADB-91C9-46FC-9FF0-0110160D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8A2FE5-A6D8-43D1-92C4-B73E98B0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964510-1E13-471C-B53F-0FC75E01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D0803B-45D9-42EA-87E8-30B409C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137BFA-90AC-4B3B-A03C-3E6EA207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236A2B-326C-4B7F-B951-FA8D207B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7265B2-2740-450D-A36D-00CC26EB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4547C4-5BD9-42DA-BD0F-51666A74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8227D5-134D-4435-8268-5C9ECEC1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9C9ECE-C558-457E-9AE7-51F37772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DF5830-FE4C-43D9-ABB5-C0DBF020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0CA06D-53A5-443C-B5AF-ADB429CB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BA8E5D-03E5-4213-AF6B-A9BA10BB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F3E3BE-73A6-4DC0-93E6-D909BC8F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EAA7C1-1520-4F6E-ACF9-EDBF3BF9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35336B-CB8A-4032-903F-30B2F6B1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D02E31-7849-434A-B631-0CD820CE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28D1D-A688-4B38-929C-1245288B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0536A6-CEDE-4732-A744-6A4E8CEF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5D1E2C-EF7F-47A9-89BC-98F5F312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8FAD55-8FEE-4960-BA08-638E66B0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23638C-EDE9-47A9-8248-47179A72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21134F-BAAE-487D-8D7D-F883971E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F018-CE5A-487B-8FC1-1B6581E6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918AB7-6DB8-42C8-86CA-E32900DD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207B0F-F588-4896-A903-90D6DA73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867101-96E8-4EE7-BCB1-AD82A589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8410AD-DA22-4C77-A142-1D9E37E1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A46E5-1FD4-47D3-97D0-454E3621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81485-C12A-4A9E-B2A3-7CA7EA4A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22BD51-4136-45F7-BDC2-C97C6B4C65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F812E-95C0-44F1-82BA-C27081731B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0B49F-CEAB-43FC-9118-1BDD71B4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922F-96FC-4A17-9E9A-0C7EDAB3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70378-1ED2-4241-A1FE-33FA0F7F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A53E2-EBDB-41B9-843D-EE7E61B1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6AEBC-D90C-40ED-AECD-33CAAB3B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63E1-7AAD-4CC0-98EA-8F9A9FC7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7A566-08D8-475A-8FBA-1CCD881D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B4C90-FFBF-4E42-B196-8D122090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3309D-5F38-4D51-942E-52275113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CAB4C-30C6-467D-902B-3EF48D8C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AD999-5068-4566-B5E1-96938263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49F00-CDB7-412F-9BB9-C916528425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BDD52F-14F8-4EBF-A52E-4BB18449F6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11C6-DA8C-4A38-933A-1908979C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6FCD05-5C4E-47A5-8FAB-DC63F7A0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FB770C-7C8D-4D1E-9EC8-B91882C5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5AAC24-C521-4BEB-B483-4EDAE6AC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2B47AC-8F1D-481D-878E-EF9E86ED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E649F-EEE6-4C89-B5BE-2DAE3398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A3E12-6B15-40C4-B081-CECE3E63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5C219-DB0E-4E25-9835-56A3EF61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308B1-F491-4185-841E-979BDFD4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CA2BA8-C555-4740-AA6B-52EF3D8A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19E38-2ADB-40D2-95B0-4D6BF4C7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9867-B740-417B-8F10-32D3433E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180B13-DA42-48F2-A90E-60270C4934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01FF4C-8CB5-425B-A341-85CDC58716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1A7F28-8659-4391-9AF1-A1360646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A91E9D-9FD9-4E22-BFAB-BF222DAB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171331-0197-413B-95A6-648ED848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2003A8-CA55-442D-9500-52E38E1F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A74932-65E3-4D1A-962C-DF833E87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FB9B48-AA4F-4B05-8AAB-B05AC275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BF0201-BECF-4FD4-8811-0555C81C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62E3AB-FF6C-4F95-9E2A-8FC55D2B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B1448-3D96-49CD-96D2-1BE5098C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2B5D9A-B822-46EC-AF31-54B98AEC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F1C206-B459-4300-AC07-AE87CC85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088C20-6E11-4B1A-A43F-D4AEE6D33F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A7FE0-F23D-4755-A6FE-B9F1CC87A5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84655-DC16-4F4C-B272-092CDFB3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A7D8B-CF1B-4879-BCA0-D128DD36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65916-95D3-40EC-90AF-815D8D27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E3A51-5D10-4BB3-B0ED-32943EA0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BBFB9-E1AC-48E9-9A03-D7AFA45A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6D82D-0861-4AD1-8802-73A0857B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20B7-B3C6-4E6D-BC14-4289077E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CAC0B-2776-4048-9EA0-0A6FE45D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6369B-554C-4D68-8751-D638B056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292F7-319C-4F18-859A-AA86FF89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C8BBF-0A20-44A7-95D1-5038565B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E3B18-BC8B-42D2-B4F4-A405718300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43179-30AC-4F22-8E66-8CE7463494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92004-645A-405B-A7C0-3D444DF8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75F1B-700C-4B2F-8BDD-F439A645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B4B8C-0DB2-4E81-8192-642B0F4D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BEE107-1A9D-4513-BB6C-FD1C565E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CA522-F8A8-4D12-96AB-2DCF90EB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C3594F-3B8D-41DA-800C-C9559E32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7AFEB-1D91-42C3-89A8-7FC806E1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BC650-C11D-4238-9055-704117AD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4C9E6-EA8F-4646-8B56-0104B884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68F65-B23C-4319-BF4F-C48CF508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DEDF0-4813-4C45-90F5-632FAACD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6E6700-BAD2-41EC-A49D-C39BE9D10C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A3F538-7763-4E41-B5CB-51810C7A18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3DC4BF-8D5C-4998-8E59-71553952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FF5650-6D14-4306-AF80-4F671505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ADDF-B622-4762-8EE3-0E9F85FD299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C626-2444-4CEB-A819-5D60B6C8647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5FAD-CDA0-42EE-9295-9177F975ABD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A7C5-1689-4CE4-B30E-DC18F61B46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6866-67DE-4FFA-9848-E1E87167C9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D96A-2A3F-4981-B486-951C85E9073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B163-C00B-47AD-980E-A14602E7EE6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E7B0-8B36-4B65-B8B4-217622699BA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8EA5-6AFC-4C22-933A-6E904664CC4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203A-51C5-4B27-A9C2-DCAC9229210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FE3C-220A-4C54-8F73-84BBAB7064A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38F5-7B2A-4056-9417-4E0E191DB26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2FF3-2A39-41F2-A7B8-A6B6EB64E93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14C8-02ED-4F78-9A1C-AB7BC84967A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24B2-17CD-4EC9-AB8A-56D7C77CC30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49EF-D1FC-47AB-9CDA-8E5D1B23CB5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C926-AC77-44A4-BDDB-C48C4C8952B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04E2-7996-4468-8500-405FC1A343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AB42-FAA9-4978-92F1-AF4E0D3A4E0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FC68-2FC1-4B9D-BB08-3410BBE4511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1275-0CFA-4017-8548-8FA6C12268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14EC-4E1C-49C0-83DD-FD1DC0DF0C7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6B74-5561-4B2F-96B2-404885216AF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4C6C-1EDF-434B-B2FE-8E2F3B5851C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111400" y="2649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求 亿 以 上 数 的 近 似 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10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Rectangle 21"/>
          <p:cNvSpPr/>
          <p:nvPr/>
        </p:nvSpPr>
        <p:spPr>
          <a:xfrm>
            <a:off x="1096920" y="1224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99"/>
          <p:cNvSpPr/>
          <p:nvPr/>
        </p:nvSpPr>
        <p:spPr>
          <a:xfrm>
            <a:off x="365040" y="738360"/>
            <a:ext cx="85946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写出下面的数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亿五千万                    写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 _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百零五亿零四十二万          写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七千六百五十亿零八百零九万    写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 _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1"/>
          <p:cNvSpPr/>
          <p:nvPr/>
        </p:nvSpPr>
        <p:spPr>
          <a:xfrm>
            <a:off x="6200640" y="14670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2"/>
          <p:cNvSpPr/>
          <p:nvPr/>
        </p:nvSpPr>
        <p:spPr>
          <a:xfrm>
            <a:off x="6200640" y="20160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5004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3"/>
          <p:cNvSpPr/>
          <p:nvPr/>
        </p:nvSpPr>
        <p:spPr>
          <a:xfrm>
            <a:off x="6276960" y="259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6500809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文本框 4"/>
          <p:cNvSpPr/>
          <p:nvPr/>
        </p:nvSpPr>
        <p:spPr>
          <a:xfrm>
            <a:off x="343080" y="3338640"/>
            <a:ext cx="811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、把下面的数改写成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单位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500000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    ）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0000000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400000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    ）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200000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文本框 6"/>
          <p:cNvSpPr/>
          <p:nvPr/>
        </p:nvSpPr>
        <p:spPr>
          <a:xfrm>
            <a:off x="2300400" y="38559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二十五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文本框 7"/>
          <p:cNvSpPr/>
          <p:nvPr/>
        </p:nvSpPr>
        <p:spPr>
          <a:xfrm>
            <a:off x="6659640" y="384012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一千二百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文本框 8"/>
          <p:cNvSpPr/>
          <p:nvPr/>
        </p:nvSpPr>
        <p:spPr>
          <a:xfrm>
            <a:off x="2292480" y="440388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三十四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文本框 9"/>
          <p:cNvSpPr/>
          <p:nvPr/>
        </p:nvSpPr>
        <p:spPr>
          <a:xfrm>
            <a:off x="6710400" y="440388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一百零二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Box 3"/>
          <p:cNvSpPr/>
          <p:nvPr/>
        </p:nvSpPr>
        <p:spPr>
          <a:xfrm>
            <a:off x="228600" y="727200"/>
            <a:ext cx="8715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省略下面各数亿位后面的尾数，求出它们的近似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4500000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≈ 1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76540000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           ）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75780"/>
          <p:cNvSpPr/>
          <p:nvPr/>
        </p:nvSpPr>
        <p:spPr>
          <a:xfrm>
            <a:off x="1143000" y="2362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千万位上的数小于</a:t>
            </a:r>
            <a:r>
              <a:rPr b="1" lang="en-US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，把亿位后面的尾数舍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75781"/>
          <p:cNvSpPr/>
          <p:nvPr/>
        </p:nvSpPr>
        <p:spPr>
          <a:xfrm>
            <a:off x="1947600" y="382752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千万位上的数比</a:t>
            </a:r>
            <a:r>
              <a:rPr b="1" lang="en-US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大，该怎么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761760" y="1981080"/>
            <a:ext cx="360" cy="609840"/>
            <a:chOff x="761760" y="1981080"/>
            <a:chExt cx="360" cy="609840"/>
          </a:xfrm>
        </p:grpSpPr>
        <p:sp>
          <p:nvSpPr>
            <p:cNvPr id="1023" name="直接连接符 75786"/>
            <p:cNvSpPr/>
            <p:nvPr/>
          </p:nvSpPr>
          <p:spPr>
            <a:xfrm flipV="1">
              <a:off x="762120" y="19810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 txBox="1"/>
            <p:nvPr/>
          </p:nvSpPr>
          <p:spPr>
            <a:xfrm rot="10800000">
              <a:off x="761760" y="19810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762120" y="2590920"/>
            <a:ext cx="457200" cy="360"/>
            <a:chOff x="762120" y="2590920"/>
            <a:chExt cx="457200" cy="360"/>
          </a:xfrm>
        </p:grpSpPr>
        <p:sp>
          <p:nvSpPr>
            <p:cNvPr id="1026" name="直接连接符 75787"/>
            <p:cNvSpPr/>
            <p:nvPr/>
          </p:nvSpPr>
          <p:spPr>
            <a:xfrm>
              <a:off x="76212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 txBox="1"/>
            <p:nvPr/>
          </p:nvSpPr>
          <p:spPr>
            <a:xfrm>
              <a:off x="762120" y="25909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761760" y="3428640"/>
            <a:ext cx="360" cy="609480"/>
            <a:chOff x="761760" y="3428640"/>
            <a:chExt cx="360" cy="609480"/>
          </a:xfrm>
        </p:grpSpPr>
        <p:sp>
          <p:nvSpPr>
            <p:cNvPr id="1029" name="直接连接符 75788"/>
            <p:cNvSpPr/>
            <p:nvPr/>
          </p:nvSpPr>
          <p:spPr>
            <a:xfrm flipV="1">
              <a:off x="762120" y="3428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 txBox="1"/>
            <p:nvPr/>
          </p:nvSpPr>
          <p:spPr>
            <a:xfrm rot="10800000">
              <a:off x="761760" y="342864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762120" y="4038480"/>
            <a:ext cx="457200" cy="360"/>
            <a:chOff x="762120" y="4038480"/>
            <a:chExt cx="457200" cy="360"/>
          </a:xfrm>
        </p:grpSpPr>
        <p:sp>
          <p:nvSpPr>
            <p:cNvPr id="1032" name="直接连接符 75789"/>
            <p:cNvSpPr/>
            <p:nvPr/>
          </p:nvSpPr>
          <p:spPr>
            <a:xfrm>
              <a:off x="762120" y="403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 txBox="1"/>
            <p:nvPr/>
          </p:nvSpPr>
          <p:spPr>
            <a:xfrm>
              <a:off x="762120" y="4038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3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5" name="Rectangle 21"/>
          <p:cNvSpPr/>
          <p:nvPr/>
        </p:nvSpPr>
        <p:spPr>
          <a:xfrm>
            <a:off x="1618920" y="12240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八边形 7"/>
          <p:cNvSpPr/>
          <p:nvPr/>
        </p:nvSpPr>
        <p:spPr>
          <a:xfrm>
            <a:off x="374760" y="70020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Box 3"/>
          <p:cNvSpPr/>
          <p:nvPr/>
        </p:nvSpPr>
        <p:spPr>
          <a:xfrm>
            <a:off x="330120" y="4397400"/>
            <a:ext cx="17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b0f0"/>
                </a:solidFill>
                <a:latin typeface="Arial"/>
                <a:ea typeface="宋体"/>
              </a:rPr>
              <a:t>理解题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缺角矩形 37"/>
          <p:cNvSpPr/>
          <p:nvPr/>
        </p:nvSpPr>
        <p:spPr>
          <a:xfrm>
            <a:off x="298440" y="4521240"/>
            <a:ext cx="216000" cy="216000"/>
          </a:xfrm>
          <a:custGeom>
            <a:avLst/>
            <a:gdLst>
              <a:gd name="textAreaLeft" fmla="*/ 25200 w 216000"/>
              <a:gd name="textAreaRight" fmla="*/ 190800 w 216000"/>
              <a:gd name="textAreaTop" fmla="*/ 25200 h 216000"/>
              <a:gd name="textAreaBottom" fmla="*/ 190800 h 216000"/>
            </a:gdLst>
            <a:ahLst/>
            <a:rect l="textAreaLeft" t="textAreaTop" r="textAreaRight" b="textAreaBottom"/>
            <a:pathLst>
              <a:path w="216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00" y="2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b0f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2"/>
          <p:cNvSpPr/>
          <p:nvPr/>
        </p:nvSpPr>
        <p:spPr>
          <a:xfrm>
            <a:off x="425520" y="5000760"/>
            <a:ext cx="85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题中给出的两个数都不是整亿数，要求省略亿位后面的尾数，就是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舍五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求这两个数的近似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组合 38"/>
          <p:cNvGrpSpPr/>
          <p:nvPr/>
        </p:nvGrpSpPr>
        <p:grpSpPr>
          <a:xfrm>
            <a:off x="279360" y="750960"/>
            <a:ext cx="2147400" cy="459720"/>
            <a:chOff x="279360" y="750960"/>
            <a:chExt cx="2147400" cy="459720"/>
          </a:xfrm>
        </p:grpSpPr>
        <p:sp>
          <p:nvSpPr>
            <p:cNvPr id="1051" name="TextBox 3"/>
            <p:cNvSpPr/>
            <p:nvPr/>
          </p:nvSpPr>
          <p:spPr>
            <a:xfrm>
              <a:off x="383760" y="75096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缺角矩形 3"/>
            <p:cNvSpPr/>
            <p:nvPr/>
          </p:nvSpPr>
          <p:spPr>
            <a:xfrm>
              <a:off x="279360" y="87156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文本框 4"/>
          <p:cNvSpPr/>
          <p:nvPr/>
        </p:nvSpPr>
        <p:spPr>
          <a:xfrm>
            <a:off x="663480" y="1163520"/>
            <a:ext cx="79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34500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要省略亿位后面的尾数，就看千万位上的数，千万位上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小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舍去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所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34500000≈1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876540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要省略亿位后面的尾数，就看千万位上的数，千万位上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大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舍去的同时，要向前一位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所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876540000≈9900000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后再将两个近似数去掉末尾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换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，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0000000=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亿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900000000=9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41"/>
          <p:cNvGrpSpPr/>
          <p:nvPr/>
        </p:nvGrpSpPr>
        <p:grpSpPr>
          <a:xfrm>
            <a:off x="297000" y="4462560"/>
            <a:ext cx="2147400" cy="459720"/>
            <a:chOff x="297000" y="4462560"/>
            <a:chExt cx="2147400" cy="459720"/>
          </a:xfrm>
        </p:grpSpPr>
        <p:sp>
          <p:nvSpPr>
            <p:cNvPr id="1055" name="TextBox 3"/>
            <p:cNvSpPr/>
            <p:nvPr/>
          </p:nvSpPr>
          <p:spPr>
            <a:xfrm>
              <a:off x="401400" y="446256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规范解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缺角矩形 43"/>
            <p:cNvSpPr/>
            <p:nvPr/>
          </p:nvSpPr>
          <p:spPr>
            <a:xfrm>
              <a:off x="297000" y="458316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文本框 6"/>
          <p:cNvSpPr/>
          <p:nvPr/>
        </p:nvSpPr>
        <p:spPr>
          <a:xfrm>
            <a:off x="838080" y="509436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876540000 ≈ 9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6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69" name="图片 76801" descr="E:\2017秋上·黄倩\其他\人\海豚.jpg海豚"/>
          <p:cNvPicPr/>
          <p:nvPr/>
        </p:nvPicPr>
        <p:blipFill>
          <a:blip r:embed="rId8"/>
          <a:stretch/>
        </p:blipFill>
        <p:spPr>
          <a:xfrm flipH="1">
            <a:off x="7116480" y="3438360"/>
            <a:ext cx="857160" cy="1095480"/>
          </a:xfrm>
          <a:prstGeom prst="rect">
            <a:avLst/>
          </a:prstGeom>
          <a:ln w="0">
            <a:noFill/>
          </a:ln>
        </p:spPr>
      </p:pic>
      <p:sp>
        <p:nvSpPr>
          <p:cNvPr id="1070" name="TextBox 3"/>
          <p:cNvSpPr/>
          <p:nvPr/>
        </p:nvSpPr>
        <p:spPr>
          <a:xfrm>
            <a:off x="380880" y="2028960"/>
            <a:ext cx="381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60000000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03000000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2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27023000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96920000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69008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4"/>
          <p:cNvSpPr/>
          <p:nvPr/>
        </p:nvSpPr>
        <p:spPr>
          <a:xfrm>
            <a:off x="2362320" y="2219400"/>
            <a:ext cx="1600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=106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5"/>
          <p:cNvSpPr/>
          <p:nvPr/>
        </p:nvSpPr>
        <p:spPr>
          <a:xfrm>
            <a:off x="2557440" y="2867040"/>
            <a:ext cx="1709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=5030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6"/>
          <p:cNvSpPr/>
          <p:nvPr/>
        </p:nvSpPr>
        <p:spPr>
          <a:xfrm>
            <a:off x="2209680" y="3514680"/>
            <a:ext cx="137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=7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7"/>
          <p:cNvSpPr/>
          <p:nvPr/>
        </p:nvSpPr>
        <p:spPr>
          <a:xfrm>
            <a:off x="2201760" y="4116240"/>
            <a:ext cx="137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3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8"/>
          <p:cNvSpPr/>
          <p:nvPr/>
        </p:nvSpPr>
        <p:spPr>
          <a:xfrm>
            <a:off x="2362320" y="4780080"/>
            <a:ext cx="1447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97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Box 9"/>
          <p:cNvSpPr/>
          <p:nvPr/>
        </p:nvSpPr>
        <p:spPr>
          <a:xfrm>
            <a:off x="2362320" y="5419800"/>
            <a:ext cx="1523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69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圆角矩形标注 11"/>
          <p:cNvSpPr/>
          <p:nvPr/>
        </p:nvSpPr>
        <p:spPr>
          <a:xfrm>
            <a:off x="5257800" y="3019320"/>
            <a:ext cx="1676520" cy="604800"/>
          </a:xfrm>
          <a:prstGeom prst="wedgeRoundRectCallout">
            <a:avLst>
              <a:gd name="adj1" fmla="val 57953"/>
              <a:gd name="adj2" fmla="val 81759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76810"/>
          <p:cNvSpPr/>
          <p:nvPr/>
        </p:nvSpPr>
        <p:spPr>
          <a:xfrm>
            <a:off x="5732640" y="307512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你行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76811"/>
          <p:cNvSpPr/>
          <p:nvPr/>
        </p:nvSpPr>
        <p:spPr>
          <a:xfrm>
            <a:off x="304920" y="1066680"/>
            <a:ext cx="8839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把下面的数改写成用“亿”作单位的数。（不是整亿的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用“四舍五入”法省略亿位后面的尾数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21"/>
          <p:cNvSpPr/>
          <p:nvPr/>
        </p:nvSpPr>
        <p:spPr>
          <a:xfrm>
            <a:off x="1543680" y="12240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文本框 75785"/>
          <p:cNvSpPr/>
          <p:nvPr/>
        </p:nvSpPr>
        <p:spPr>
          <a:xfrm>
            <a:off x="343080" y="1341360"/>
            <a:ext cx="8458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省略亿位后面的尾数，要看千万位上的数是大于或等于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还是小于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，根据“四舍五入”的方法求出近似数。结果要加一个“亿”字，由于是近似数，必须用“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≈”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连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3" name="Rectangle 21"/>
          <p:cNvSpPr/>
          <p:nvPr/>
        </p:nvSpPr>
        <p:spPr>
          <a:xfrm>
            <a:off x="1618920" y="12240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四、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07:51:00Z</dcterms:created>
  <dc:creator/>
  <dc:description/>
  <dc:language>en-US</dc:language>
  <cp:lastModifiedBy>万润仪器贸易公司</cp:lastModifiedBy>
  <dcterms:modified xsi:type="dcterms:W3CDTF">2020-08-21T08:52:11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